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D9E-3AED-41B6-A0FC-4DA88D4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C7E-AA29-43BA-846E-B55A066E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891-F8B0-41C6-BF83-26632CCC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0AC-6DE9-4119-88E1-39850F8E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6F4C-BE64-4D66-BBEE-373E0C75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5EC5-3C9D-4046-B6A3-C4989F9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CEEA-98FF-4E7E-AA7C-5ED45D7C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7D5-B18A-45B3-B002-C07860C9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4320-DA98-43CE-BE70-8120716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B37-6938-4F94-B657-54EA68E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9B2-E9D5-4907-9831-FA578A4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038-C0CB-4859-ABD9-1B90399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47ED-86CC-4D5C-A857-1C13D71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BBB8-4DFC-4EEF-BCE1-7B679B6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564-13B4-4FD7-81D0-C303412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C060-7317-45E2-BF00-1F54C454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28F4-843B-4BF6-B620-9E1A502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CCA-9A45-4ACF-A395-AA6C500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15B-E7B2-4264-8BBE-04F2665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DB6-1C09-4593-B40B-82F5481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437-C605-4FE8-8649-7D2B439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AE8-2D7E-40E2-8289-22DA879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7C9-3500-4232-ACFE-6706C93B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DE9-3C41-4929-8D94-F43CBA1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D447-1058-4979-A807-712AF26A29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B81-C989-46BF-9DB8-4AFE150D93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ransport world: problems and prospects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Before nature frightened man,and now the man is intimidating in nature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Jacques-Yves Coustea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1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initially in the form of transport people have used horses, camels,donke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later, people created a transportable carriage. Transport has become a little easier, but people did not stop there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ople wanted to have transport, much more comfortable and he invented the train. The invention of the train plays an important role in the economy,politics, in human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9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, people invented buses, cars, trains, thought that might be newer, more comfortable,faster ? but the man was able to come up with transportation far more convenient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952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es. Previously, people could not imagine that it is possible to move through the air, and to find a few hours to another part of the country, or even planet, but now the plane is quite a normal transp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419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8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 the last several centuries people have made a huge breakthrough in the field of transport. But we can't be sure that's it. Who knows? Perhaps soon we are waiting for the flying taxi, teleportation. But and this is a matter of tim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nk you for your attenti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esentation was made by the schoolgirl of the 9th class Bazina Als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696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600"/>
                            </p:stCondLst>
                            <p:childTnLst>
                              <p:par>
                                <p:cTn id="1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740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14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12:47:25Z</dcterms:created>
  <dc:creator>Фируза</dc:creator>
  <dc:description/>
  <dc:language>en-US</dc:language>
  <cp:lastModifiedBy>admin</cp:lastModifiedBy>
  <dcterms:modified xsi:type="dcterms:W3CDTF">2016-11-17T13:36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